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2717-D5AA-4B4B-B7F2-314942DDD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238D-CFD6-4562-8712-6A293422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8697-9A62-4D1D-9D61-90E63D264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0392-61A8-4BAC-BB8A-60AF84344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56CE-DE1C-4D0F-87D3-59BA5EBC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6228-3141-49BE-B4DB-583F5A48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504F-B04E-4ECC-A74F-B79DCC22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EE6E-4F09-4A50-985F-FCB7EE39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1233-753F-4B9E-ACEB-6A1483DC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D4B4-D674-481F-9156-A203E436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A180-76A0-4659-9B84-B4E21CCF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8A9A-4C46-47E6-A93B-607747CE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CC8E17-8751-4CD1-BF41-9EB37D370F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hurch Powerpoint v5.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Church Powerpoint v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"/>
          <p:cNvSpPr/>
          <p:nvPr/>
        </p:nvSpPr>
        <p:spPr>
          <a:xfrm>
            <a:off x="636480" y="1566720"/>
            <a:ext cx="7939080" cy="60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Legal attacks pastors and church leaders are f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ulpit Free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ats of IRS audits and retaliations are being used to intimidate and silence pastors and church leader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want to speak to their congregations – from a scriptural basis – about the positions of political candidates on moral issu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ame pressures are being applied to pastors and church leaders who exhort their congregations to obey Bible teaching that conflicts with the dictates of an increasingly “tolerant” secular cul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hurch Powerpoint v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636480" y="1566720"/>
            <a:ext cx="7939080" cy="57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Legal attacks pastors and church leaders are f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te Campaign Finance Law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governments are enforcing campaign finance law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ttempt to treat churches as political action committees if their pastors and church leaders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particip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olitical activities such as signing petition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Church Powerpoint v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636480" y="1566720"/>
            <a:ext cx="7939080" cy="57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Legal attacks pastors and church leaders are f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timidation and Hara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Christian groups and individuals are disrupting services, blocking parking lots, threatening or assaulting church members, and destroying or defacing church propert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Church Powerpoint v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636480" y="1566720"/>
            <a:ext cx="7939080" cy="57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Alliance Defense Fu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F has documented a number of cases in each of these areas – and </a:t>
            </a:r>
            <a:r>
              <a:rPr b="1" lang="en-US" sz="2500" spc="-1" strike="noStrike" u="sng">
                <a:solidFill>
                  <a:srgbClr val="77933c"/>
                </a:solidFill>
                <a:uFillTx/>
                <a:latin typeface="Times New Roman"/>
                <a:ea typeface="Times New Roman"/>
              </a:rPr>
              <a:t>successfully defended</a:t>
            </a:r>
            <a:r>
              <a:rPr b="1" lang="en-US" sz="25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urches and ministries against all of these threats and intrusion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Church Powerpoint v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636480" y="1566720"/>
            <a:ext cx="7939080" cy="65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must defen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6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Our First Liberty </a:t>
            </a:r>
            <a:r>
              <a:rPr b="1" lang="en-US" sz="26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– religious freedom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ainst the increasingly aggressive effort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government entities and anti-Christian organizati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xert undue, inappropriate, and destructive influen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 pastors, church ministries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he internal affairs of religious congreg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Church Powerpoint v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636480" y="1566720"/>
            <a:ext cx="793908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pastors ignore or deny there is a </a:t>
            </a:r>
            <a:r>
              <a:rPr b="1" lang="en-US" sz="32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probl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the examples are everyw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Church Powerpoint v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636480" y="1566720"/>
            <a:ext cx="793908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The Examples are Every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rlean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 church group providing free food for people who had lost their homes to Hurricane Katrina was ordered to </a:t>
            </a:r>
            <a:r>
              <a:rPr b="1" lang="en-US" sz="25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stop its ministry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cause the group offered a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ntar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ayer service and Bible study.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Church Powerpoint v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636480" y="1566720"/>
            <a:ext cx="7939080" cy="64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The Examples are Every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Jerse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tate officials attempted to </a:t>
            </a:r>
            <a:r>
              <a:rPr b="1" lang="en-US" sz="25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revoke the tax-exempt statu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 worship pavilion owned by the Ocean Grove Camp Meeting Association of the United Methodist Church after they declined a request to hold a same-sex “civil union” ceremony there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Church Powerpoint v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4"/>
          <p:cNvSpPr/>
          <p:nvPr/>
        </p:nvSpPr>
        <p:spPr>
          <a:xfrm>
            <a:off x="636480" y="1566720"/>
            <a:ext cx="7939080" cy="67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The Examples are Every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York City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school board – </a:t>
            </a:r>
            <a:r>
              <a:rPr b="1" lang="en-US" sz="25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denying equal access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ublic property – has been trying for nearly two decades to block churches from meeting for worship services in their public school buildings on Sunday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Church Powerpoint v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636480" y="1566720"/>
            <a:ext cx="7939080" cy="65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over Amer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Christian liberty is under atta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pposition is mounting. The need for action is cri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Church Powerpoint v5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Church Powerpoint v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>
            <a:off x="636480" y="1566720"/>
            <a:ext cx="7939080" cy="83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The Alliance Defense Fund (ADF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legal allianc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ending the right to hear and speak the Truth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work diligently to foster and defend an environmen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pastors are free to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peak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c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inist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ccordance with biblical principl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fear of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vernment censorship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nishment, unlawful regulation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loss of tax exemptio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Church Powerpoint v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4"/>
          <p:cNvSpPr/>
          <p:nvPr/>
        </p:nvSpPr>
        <p:spPr>
          <a:xfrm>
            <a:off x="636480" y="1566720"/>
            <a:ext cx="7939080" cy="83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 </a:t>
            </a:r>
            <a:r>
              <a:rPr b="1" lang="en-US" sz="25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your church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arget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a secular organization, public officials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government agency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ct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800-TELL AD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attorneys have a solid record of succes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urtrooms coast to coas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ending the constitutionally protected right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churches and ministries like your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Church Powerpoint v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636480" y="1566720"/>
            <a:ext cx="7939080" cy="74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ing a </a:t>
            </a:r>
            <a:r>
              <a:rPr b="1" lang="en-US" sz="28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strong defens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ritical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it isn’t en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ose who oppose our faith will not hesit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xploit every opportun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ntimidate, frustrate, and litig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ainst the church and its lea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Church Powerpoint v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/>
          <p:cNvSpPr/>
          <p:nvPr/>
        </p:nvSpPr>
        <p:spPr>
          <a:xfrm>
            <a:off x="636480" y="1566720"/>
            <a:ext cx="7939080" cy="70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ety will not long survive without a strong, vibrant,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fully engaged Chur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d by courageous individuals willing to speak, act, and minister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th of God’s full Wo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Church Powerpoint v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636480" y="1566720"/>
            <a:ext cx="7939080" cy="78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What other pastors are say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hurch’s assignment is to b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ral and cultural conscience of the natio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shop Harry Jackson, J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urch of Hop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tsville, Marylan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Church Powerpoint v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4"/>
          <p:cNvSpPr/>
          <p:nvPr/>
        </p:nvSpPr>
        <p:spPr>
          <a:xfrm>
            <a:off x="636480" y="1566720"/>
            <a:ext cx="7939080" cy="81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What other pastors are say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not enough to be an advocate of somethin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must be an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utward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voc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n no longer be silent.  If we don’t speak up, no one is going to speak up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. David Jeremia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 Mountain Community Churc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jon, Californ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Church Powerpoint v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636480" y="1566720"/>
            <a:ext cx="7939080" cy="85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What other pastors are say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f the challenges is being true to the Word of God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nd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ue to the culture into which you’re preaching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’t preach the Word of God truthfu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preaching with courag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verend Dr. John Gue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ist Church Grove Farm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ttsburgh, Pennsylvan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Church Powerpoint v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4"/>
          <p:cNvSpPr/>
          <p:nvPr/>
        </p:nvSpPr>
        <p:spPr>
          <a:xfrm>
            <a:off x="636480" y="1566720"/>
            <a:ext cx="7939080" cy="74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32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souls of million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America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aching to hear from l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are unafraid to preach the Gosp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reely minister the love of G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angible w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Church Powerpoint v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4"/>
          <p:cNvSpPr/>
          <p:nvPr/>
        </p:nvSpPr>
        <p:spPr>
          <a:xfrm>
            <a:off x="636480" y="1566720"/>
            <a:ext cx="7939080" cy="74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uture of religious liberty in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s on the willingness of pastors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speak up bold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ir God-given, constitutionally protected freedo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Church Powerpoint v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636480" y="1566720"/>
            <a:ext cx="7939080" cy="84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 your fellow pastors and religious leaders across Amer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tanding up for the Tru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in defense of religious freed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 u="sng">
                <a:solidFill>
                  <a:srgbClr val="77933c"/>
                </a:solidFill>
                <a:uFillTx/>
                <a:latin typeface="Times New Roman"/>
                <a:ea typeface="Times New Roman"/>
              </a:rPr>
              <a:t>www.SpeakUpMovement.org</a:t>
            </a:r>
            <a:r>
              <a:rPr b="1" lang="en-US" sz="32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earn what you can 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reserve religious liberty in our 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hurch Powerpoint v5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Church Powerpoint v5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Church Powerpoint v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539640" y="1717560"/>
            <a:ext cx="817416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Who will speak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Church is silenced?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how are they to believe in H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whom they have never hear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how are they to hear without someone preaching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mans 10:14-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Church Powerpoint v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1093680" y="1635120"/>
            <a:ext cx="715032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gress shall make no law respecting an establishment of religion, or prohibiting the free exercise thereof.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The First Amendment to the U.S. Cons</a:t>
            </a:r>
            <a:r>
              <a:rPr b="1" lang="en-US" sz="20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tit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merica today, the government is moving aggressively to prohibit the free exercise of religion…to silence pas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o block the proclamation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Church Powerpoint v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1025640" y="1566720"/>
            <a:ext cx="75499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Legal attacks pastors and church leaders are f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ternal Aff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mployment Non-Discrimination Act, now moving through Congress, could give government the authority to tell pastors and other church and ministry leaders who they can hire/fire from staff position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same legislation could effectively limit or curb   church discipline of those who violate scriptural precep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Church Powerpoint v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636480" y="1566720"/>
            <a:ext cx="7939080" cy="35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Legal attacks pastors and church leaders are f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qual Ac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riminatory policies are being used to deny churches equal access to public venues for worship services that other groups utilize without restriction or penalt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hurch Powerpoint v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636480" y="1566720"/>
            <a:ext cx="7939080" cy="42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Legal attacks pastors and church leaders are f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and U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ning restrictions and land-use ordinances are being established that specifically discriminate against churches – restricting when and where services may be hel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Church Powerpoint v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636480" y="1566720"/>
            <a:ext cx="793908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Legal attacks pastors and church leaders are f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overnment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urches and ministries are being denied access to government benefit programs that are available to other private groups that work with the underprivilege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urches that do receive government assistance for ministry programs are being restrained from sharing the Gospel – lest they violate the so-called “separation of church and state.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16:32:31Z</dcterms:created>
  <dc:creator>Bruce Ellefson</dc:creator>
  <dc:description/>
  <dc:language>en-US</dc:language>
  <cp:lastModifiedBy>Robert Kilmarx</cp:lastModifiedBy>
  <dcterms:modified xsi:type="dcterms:W3CDTF">2010-09-07T14:58:45Z</dcterms:modified>
  <cp:revision>29</cp:revision>
  <dc:subject/>
  <dc:title>Slide 1</dc:title>
</cp:coreProperties>
</file>