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2C3-A547-42D7-8120-6F7C9105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D8E-B14C-4993-ACB1-7075BEFA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6A3-C5EF-4318-B878-9102CB09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E03-16AC-4EBE-8549-3076BED8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FC3-0F09-4DC3-9863-5F214AAB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E53-23E2-40EB-B98C-E11670FC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FC0-EED7-41EF-AEBF-50224F06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89B-5C14-49B9-9426-717E70FA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99F-D287-40CC-B8DF-E02B481A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749-28D2-4926-86E6-55E2FEC4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98C-9F77-4593-9E98-9F9BBD2C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3E6-2F4E-448A-8D5F-8F3137BC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B86A3-FCB5-4247-88BD-3ECB84834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urch Powerpoint v5.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636480" y="1566720"/>
            <a:ext cx="7939080" cy="60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Legal attacks pastors and church leaders are f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lpit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ts of IRS audits and retaliations are being used to intimidate and silence pastors and church leader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want to speak to their congregations – from a scriptural basis – about the positions of political candidates on moral iss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me pressures are being applied to pastors and church leaders who exhort their congregations to obey Bible teaching that conflicts with the dictates of an increasingly “tolerant” secular 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636480" y="1566720"/>
            <a:ext cx="793908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Legal attacks pastors and church leaders are f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te Campaign Finance La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governments are enforcing campaign finance law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ttempt to treat churches as political action committees if their pastors and church leader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particip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olitical activities such as signing petit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636480" y="1566720"/>
            <a:ext cx="793908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Legal attacks pastors and church leaders are f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imidation and Hara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Christian groups and individuals are disrupting services, blocking parking lots, threatening or assaulting church members, and destroying or defacing church proper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636480" y="1566720"/>
            <a:ext cx="793908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Alliance Defense Fu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F has documented a number of cases in each of these areas – and </a:t>
            </a:r>
            <a:r>
              <a:rPr b="1" lang="en-US" sz="25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successfully defended</a:t>
            </a:r>
            <a:r>
              <a:rPr b="1" lang="en-US" sz="25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rches and ministries against all of these threats and intrus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36480" y="1566720"/>
            <a:ext cx="7939080" cy="65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ust defe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6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Our First Liberty </a:t>
            </a:r>
            <a:r>
              <a:rPr b="1" lang="en-US" sz="26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– religious freedom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ainst the increasingly aggressive effor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government entities and anti-Christian organiz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xert undue, inappropriate, and destructive influ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pastors, church ministrie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internal affairs of religious congreg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636480" y="1566720"/>
            <a:ext cx="79390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astors ignore or deny there is a </a:t>
            </a:r>
            <a:r>
              <a:rPr b="1" lang="en-US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 examples are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636480" y="1566720"/>
            <a:ext cx="79390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The Examples are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rlean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church group providing free food for people who had lost their homes to Hurricane Katrina was ordered to </a:t>
            </a:r>
            <a:r>
              <a:rPr b="1" lang="en-US" sz="25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stop its ministry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the group offered a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ar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yer service and Bible study.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636480" y="1566720"/>
            <a:ext cx="7939080" cy="64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The Examples are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Jerse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tate officials attempted to </a:t>
            </a:r>
            <a:r>
              <a:rPr b="1" lang="en-US" sz="25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revoke the tax-exempt stat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worship pavilion owned by the Ocean Grove Camp Meeting Association of the United Methodist Church after they declined a request to hold a same-sex “civil union” ceremony ther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636480" y="1566720"/>
            <a:ext cx="7939080" cy="67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The Examples are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York Ci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school board – </a:t>
            </a:r>
            <a:r>
              <a:rPr b="1" lang="en-US" sz="25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denying equal access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ublic property – has been trying for nearly two decades to block churches from meeting for worship services in their public school buildings on Sunday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36480" y="1566720"/>
            <a:ext cx="7939080" cy="65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ver Ame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Christian liberty is under atta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position is mounting. The need for action is cri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urch Powerpoint v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636480" y="1566720"/>
            <a:ext cx="7939080" cy="83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The Alliance Defense Fund (AD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legal allianc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nding the right to hear and speak the Truth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ork diligently to foster and defend an environm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astors are free to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peak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nist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cordance with biblical principl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fear of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 censorship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ishment, unlawful regulation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loss of tax exemp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636480" y="1566720"/>
            <a:ext cx="7939080" cy="83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</a:t>
            </a:r>
            <a:r>
              <a:rPr b="1" lang="en-US" sz="25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your church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arget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 secular organization, public officials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government agency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ct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800-TELL A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attorneys have a solid record of succes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urtrooms coast to coas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nding the constitutionally protected righ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hurches and ministries like you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636480" y="1566720"/>
            <a:ext cx="7939080" cy="74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a </a:t>
            </a:r>
            <a:r>
              <a:rPr b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strong defen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ritica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t isn’t en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se who oppose our faith will not hesit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xploit every opportun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timidate, frustrate, and litig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ainst the church and its lea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636480" y="1566720"/>
            <a:ext cx="7939080" cy="70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ety will not long survive without a strong, vibrant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fully engaged Chu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 by courageous individuals willing to speak, act, and minister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th of God’s full 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36480" y="1566720"/>
            <a:ext cx="7939080" cy="78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What other pastors are sa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urch’s assignment is to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ral and cultural conscience of the n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hop Harry Jackson, J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rch of Ho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tsville, Maryl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636480" y="1566720"/>
            <a:ext cx="7939080" cy="81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What other pastors are sa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not enough to be an advocate of someth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ust be an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utwar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voc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no longer be silent.  If we don’t speak up, no one is going to speak up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. David Jeremia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 Mountain Community Chur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jon, Califor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636480" y="1566720"/>
            <a:ext cx="7939080" cy="85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What other pastors are sa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challenges is being true to the Word of Go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ue to the culture into which you’re preaching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’t preach the Word of God truthfu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preaching with courag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verend Dr. John Gue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Church Grove Far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ttsburgh, Pennsylva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636480" y="1566720"/>
            <a:ext cx="7939080" cy="74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souls of millio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meric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ching to hear from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are unafraid to preach the Gosp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reely minister the love of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angible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636480" y="1566720"/>
            <a:ext cx="7939080" cy="74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ture of religious liberty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s on the willingness of pastor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speak up bold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ir God-given, constitutionally protected freed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636480" y="1566720"/>
            <a:ext cx="7939080" cy="84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 your fellow pastors and religious leaders across Ame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tanding up for the Tru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n defense of religious free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www.SpeakUpMovement.org</a:t>
            </a:r>
            <a:r>
              <a:rPr b="1" lang="en-US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earn what you can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eserve religious liberty in our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urch Powerpoint v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Church Powerpoint v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539640" y="1717560"/>
            <a:ext cx="817416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Who will speak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hurch is silenced?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ow are they to believe in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whom they have never he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ow are they to hear without someone preaching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ans 10:14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1093680" y="1635120"/>
            <a:ext cx="715032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ress shall make no law respecting an establishment of religion, or prohibiting the free exercise thereof.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The First Amendment to the U.S. Cons</a:t>
            </a:r>
            <a:r>
              <a:rPr b="1" lang="en-US" sz="20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tit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merica today, the government is moving aggressively to prohibit the free exercise of religion…to silence pa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o block the proclam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025640" y="1566720"/>
            <a:ext cx="75499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Legal attacks pastors and church leaders are f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rnal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ployment Non-Discrimination Act, now moving through Congress, could give government the authority to tell pastors and other church and ministry leaders who they can hire/fire from staff posit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ame legislation could effectively limit or curb   church discipline of those who violate scriptural precep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636480" y="1566720"/>
            <a:ext cx="793908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Legal attacks pastors and church leaders are f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qual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riminatory policies are being used to deny churches equal access to public venues for worship services that other groups utilize without restriction or penal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636480" y="1566720"/>
            <a:ext cx="793908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Legal attacks pastors and church leaders are f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nd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ing restrictions and land-use ordinances are being established that specifically discriminate against churches – restricting when and where services may be hel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636480" y="1566720"/>
            <a:ext cx="79390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Legal attacks pastors and church leaders are f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overnmen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rches and ministries are being denied access to government benefit programs that are available to other private groups that work with the underprivileg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rches that do receive government assistance for ministry programs are being restrained from sharing the Gospel – lest they violate the so-called “separation of church and state.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6:32:31Z</dcterms:created>
  <dc:creator>Bruce Ellefson</dc:creator>
  <dc:description/>
  <dc:language>en-US</dc:language>
  <cp:lastModifiedBy>Robert Kilmarx</cp:lastModifiedBy>
  <dcterms:modified xsi:type="dcterms:W3CDTF">2010-09-07T14:58:45Z</dcterms:modified>
  <cp:revision>29</cp:revision>
  <dc:subject/>
  <dc:title>Slide 1</dc:title>
</cp:coreProperties>
</file>